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32E-11CE-4D10-9100-BD6FC086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BECC-8476-4EC9-AB2F-BBF6FCC1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A45-739F-4A69-BFD0-2FBCC87B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993-705B-42E4-82B7-FD3C630F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B9A7-801C-4613-A95F-40CE3B03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CDC2-837E-4A79-801B-751B3FBD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6950-41B9-4BB6-BB3E-2022A9FA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64F2-08CD-409E-A116-00589144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26DE-5183-4FF5-BF79-C095D298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7FAF-3814-4237-9A5F-C448BC0B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F6EB-DF04-40F5-9A9C-48B00FE8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164-167C-4084-923A-4337F524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6B6B-BFC1-4EF9-ADCB-14D41FE6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8730-3FFD-462E-A7A7-164EA718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5582-8BEE-4B59-BCCA-789F1144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CA6D-8028-4DE7-B8DD-1E669EB5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F5A2-D6D6-4149-92BB-365B105A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DC1-FDFE-4CFD-83EE-A2ADB7AE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593B-383A-4C85-B95C-3464CABD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8DF-CDD0-4F94-BFE2-ECA5A304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8D7-A07E-4082-B395-C90A61F4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7004-58B9-4404-8989-8680A2C3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FD48-0E0B-4268-B05B-DB79715F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433-B48C-4A49-9E76-DC568848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DD45-854D-4B67-BBEE-87AAAD7015B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1D70-7960-407D-85B6-75724BFE595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bswxrk.files.wordpress.com/2010/03/bieber_cody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menudospeques.net/images/recursos_infantiles/cuentos/colores_04.jpg&amp;imgrefurl=http://juegospaula.blogspot.com/&amp;usg=__JLGLeDB2FyJvF9KH3ZDQOdNTSSQ=&amp;h=332&amp;w=441&amp;sz=27&amp;hl=en&amp;start=19&amp;itbs=1&amp;tbnid=NqTPr1-qtIcTJM:&amp;tbnh=96&amp;tbnw=127&amp;prev=/images%3Fq%3Dlos%2Bcolores%26hl%3Den%26safe%3Dactive%26gbv%3D2%26ndsp%3D20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solarpowerwindenergy.org/wp-content/uploads/2009/08/VestasV80_7_final.jpg&amp;imgrefurl=http://www.solarpowerwindenergy.org/2009/08/06/an-overview-of-wind-power-industry-and-few-guidelines-regarding-renewable-energy-jobs/&amp;usg=__zPu7Nyu50Dkbc3LjRBh7IPKdNKY=&amp;h=333&amp;w=371&amp;sz=60&amp;hl=en&amp;start=4&amp;itbs=1&amp;tbnid=XXCNFKqD8gGJ5M:&amp;tbnh=110&amp;tbnw=122&amp;prev=/images%3Fq%3Ddifferent%2Bkinds%2Bof%2Bjobs%26hl%3Den%26safe%3Dactive%26sa%3DX%26gbv%3D2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brentwood.thefuntimesguide.com/images/blogs/ravenwood-high-school-brentwood-tn.jpg&amp;imgrefurl=http://brentwood.thefuntimesguide.com/2007/06/brentwood_and_ravenwood_high_s.php&amp;usg=__fCv5kPIBscBOIs99WC4oZCAO1_4=&amp;h=452&amp;w=600&amp;sz=216&amp;hl=en&amp;start=20&amp;itbs=1&amp;tbnid=_tcXkHC61VxNoM:&amp;tbnh=102&amp;tbnw=135&amp;prev=/images%3Fq%3Dschools%26hl%3Den%26safe%3Dactive%26gbv%3D2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northamptonshire.gov.uk/en/councilservices/asc/services/older/PublishingImages/house.jpg&amp;imgrefurl=http://www.northamptonshire.gov.uk/en/councilservices/asc/services/older/Pages/Equipment.aspx&amp;usg=__sRcRIkUBDVwDkdZqeBxwKwGLRB0=&amp;h=458&amp;w=500&amp;sz=57&amp;hl=en&amp;start=10&amp;itbs=1&amp;tbnid=3wyKAkS1G2IL2M:&amp;tbnh=119&amp;tbnw=130&amp;prev=/images%3Fq%3Ddifferent%2Bparts%2Bof%2Bthe%2Bhouse%26hl%3Den%26safe%3Dactive%26gbv%3D2%26tbs%3Disch: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dezignus.com/wp-content/uploads/2008/04/clothes1.jpg&amp;imgrefurl=http://dezignus.com/clothes-photos/&amp;usg=__aPe9BcEpoAJZvt7awrwNb77p_PY=&amp;h=981&amp;w=575&amp;sz=156&amp;hl=en&amp;start=8&amp;itbs=1&amp;tbnid=bxFv70jFEV9YZM:&amp;tbnh=149&amp;tbnw=87&amp;prev=/images%3Fq%3Dclothes%26hl%3Den%26safe%3Dactive%26gbv%3D2%26tbs%3Disch: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Larissa y quyne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71600" y="838080"/>
            <a:ext cx="609588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a clase de espanol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 famil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herma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mam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pap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herman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3581280"/>
            <a:ext cx="35053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os colores 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zu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j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arol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3733920"/>
            <a:ext cx="30477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os trabaj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consruc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maestr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2057400"/>
            <a:ext cx="2762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 escuel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llwood-ward eleme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bson eleme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 mile charter eleme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ton eleme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2133720"/>
            <a:ext cx="2209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 cas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b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coci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cuar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comed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sal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2057400"/>
            <a:ext cx="2666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 rop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camese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k pantal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 sapat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fal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2057400"/>
            <a:ext cx="2361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aies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x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atem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y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 carol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2800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8:32:57Z</dcterms:created>
  <dc:creator>WSFCS Workstation</dc:creator>
  <dc:description/>
  <dc:language>en-US</dc:language>
  <cp:lastModifiedBy>WSFCS Workstation</cp:lastModifiedBy>
  <dcterms:modified xsi:type="dcterms:W3CDTF">2010-04-28T18:58:51Z</dcterms:modified>
  <cp:revision>3</cp:revision>
  <dc:subject/>
  <dc:title>Slide 1</dc:title>
</cp:coreProperties>
</file>